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83D-ACD3-4080-A58A-84386C3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67E-EDF5-4714-B724-5A27926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045-0D44-4BC3-8B8A-B6200ED9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A08-EF7F-4FC7-90C0-AFDED57B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A6C7-C200-4050-B560-33A3896E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4AA2-138C-4BC3-AC93-BDB21CF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9914-80B3-4A05-AA6F-1A8A42EB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1FCD-823C-4C9E-9A7E-2A7EDD19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D9DC-015B-494D-934D-C9CB1698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CEE3-C6DD-4BF7-8DA5-B700C0C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AE3-3E10-49B9-B80F-2E3462F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D13-A588-49E4-B01B-14D50A8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1FB-518B-4B84-85D8-ECE20B4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7F1A-5935-4FB7-894C-C889DCF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8B95-D49C-4787-8758-2833240A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523C-9B3F-4DE5-97CE-8C4E7CD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B410-D836-45AC-83F5-1097C22C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62DF-03AA-4330-B91C-57148E7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E859-A34D-40F5-97D0-BD7E3EB3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B423-B36C-467F-8AC8-851CDEF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5D86-4A92-4908-B52A-8E7FFB0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8C71-A3A1-4516-BC93-45F20F56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B39-8A51-475C-BB12-A00C0EA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8AEE-DCFD-4808-9B70-4E6A4BE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7656-8F18-49C2-96BE-78B3F94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2E3E-C431-4E8B-B58B-6C7DB81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8A55-BF35-4FC2-A8C6-F88575C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FF0A-F9EF-46A7-98E0-5676866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C829-B0E7-4F4A-A30D-79EB2C9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7221-907A-4B9A-B4FF-46897B23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53F6-DD0B-44E3-AF48-613DC1E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EED8-81BE-42F5-B5BC-DCA61D68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2A0F-A71E-4A19-9B5F-8A0C3C4B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258-CAA2-4C07-B9AA-6EF4FA6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31DC-776D-43F6-97FD-B57B8523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AD74-C402-4225-91F3-0FF7DD46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323E-AC1A-4FA2-92BF-5A5AB19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CA8A-04CF-4528-A823-899801F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2D3A-5401-40A9-BA7D-BD43AF0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3993-C95F-4414-853E-2453858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813C-4E98-4D94-9C24-9E84792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56E1-63B8-45FE-AA2F-614DBB74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B610-202A-44A7-8C97-F7B9A07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A86E-E1FF-4211-A60A-F1B2BCF9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DCC-CBB0-4662-B269-A7E2BEA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EAFD-8D44-4760-AFEE-A1C9618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C062-6DB7-4128-A4EB-6E7DDCB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BA248-9BB7-4364-91FC-AFCBAA99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C37C-930E-46E1-B21F-D323FFD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CF80-A795-4278-BF6E-BC850553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748A-1319-4F78-AE0D-F44DEBF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3211-AB82-49A4-971D-0AA1E12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D51F-1009-4609-8BD2-4DA39EA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D7F3-2473-4896-8A60-1A1BFD1E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FBEB-C1BF-48B3-BDD4-832F87DF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039-8051-481D-9F4D-C1592607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0316F-F961-42AF-BFEC-F6698DB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F60A-5BFD-4119-A0CF-35294E9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4FF1-D8F2-4775-ACAE-AC43DDD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FC66-BC20-4746-92D6-881B609D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9D68-51AA-422E-A064-D6C8CD6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BDE5A-43CE-43DF-9AA0-3C4BF8E5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1770E-7166-47B3-A22C-85DC3878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0FFB3-FCDC-4691-B39F-56C7C68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ACA8-68A8-457C-A547-E0816DF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5444-0492-4F70-8275-7FDE1F9E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464-3668-42CA-9352-78BFD2F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F7A0-FE56-4AD0-8DB3-2974742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A818-8226-4B27-A262-149B9B78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E647-ECC6-4E5D-89A0-B92C0A9A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DFAB-AC15-4E2C-BCD4-42C2AF91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78B3-0D3C-4C29-8905-B3ED4C5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74862-8B56-4421-8843-70F55689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3D380-00CE-46FC-B62F-B89748B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6E11-955F-43BD-AFA8-6895A49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AF22-A52A-4D40-BC6D-DF508385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33EE-58F9-4C43-97BD-4B8DDD7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E3D-E19B-4697-AC92-8F70674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C28D-CA59-437D-9518-01DBDBF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C3F41-7906-49E4-A532-4316972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EB77-B47F-4A3C-BF32-1E803772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5A21-7E07-4BFD-8A68-F3EF8621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CBA1-1DA0-44F6-8E04-074C172D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6A6-657F-4C2F-90BD-1F22A2E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F93-4B2B-415C-BAD5-B334449C34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036-B69A-470C-A069-1F0FE21F3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CF64-5907-4875-B589-CD816B4E79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60F-BBBB-44F6-AB52-EC043AC9E20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1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2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7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9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1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AA1-5FEB-4388-9ED7-933D229A97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E90E-152E-4769-9872-DEBEFF7958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41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20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421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C837-02D7-4432-B6F3-0E80724108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784872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30400" y="444600"/>
            <a:ext cx="643104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8c73"/>
                </a:solidFill>
                <a:latin typeface="Arial"/>
              </a:rPr>
              <a:t>Чем похожи эти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уп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гляну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ж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ну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ту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мы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шурш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3280" y="1600200"/>
            <a:ext cx="431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ют точно и достоверно все действия, собы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2743200" y="1676520"/>
            <a:ext cx="1447920" cy="3962160"/>
          </a:xfrm>
          <a:custGeom>
            <a:avLst/>
            <a:gdLst>
              <a:gd name="textAreaLeft" fmla="*/ 0 w 1447920"/>
              <a:gd name="textAreaRight" fmla="*/ 522720 w 144792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2c8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5603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 Black"/>
              </a:rPr>
              <a:t>Глагол</a:t>
            </a: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66280" y="2437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самостоятельная часть реч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бозначает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действие предме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твечает на вопрос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что делать? что сделат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пример: читать, нарисов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5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65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Алгоритм определения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оставь к слову вопр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лово отвечает на вопр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что делает?, что сделает?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лово обозначает действие предме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600" spc="-1" strike="noStrike">
                <a:solidFill>
                  <a:srgbClr val="cc3300"/>
                </a:solidFill>
                <a:latin typeface="Arial"/>
              </a:rPr>
              <a:t>Это глаго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Это другая часть ре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 rot="5400000">
            <a:off x="4419720" y="114300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 rot="5400000">
            <a:off x="1447920" y="556272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 rot="5400000">
            <a:off x="7200720" y="55242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AutoShape 9"/>
          <p:cNvSpPr/>
          <p:nvPr/>
        </p:nvSpPr>
        <p:spPr>
          <a:xfrm rot="1002600">
            <a:off x="4951080" y="2676600"/>
            <a:ext cx="2590920" cy="228600"/>
          </a:xfrm>
          <a:custGeom>
            <a:avLst/>
            <a:gdLst>
              <a:gd name="textAreaLeft" fmla="*/ 323640 w 2590920"/>
              <a:gd name="textAreaRight" fmla="*/ 2267280 w 2590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AutoShape 10"/>
          <p:cNvSpPr/>
          <p:nvPr/>
        </p:nvSpPr>
        <p:spPr>
          <a:xfrm rot="5400000">
            <a:off x="1257120" y="3466800"/>
            <a:ext cx="1143000" cy="4572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 rot="5271600">
            <a:off x="6899040" y="3912840"/>
            <a:ext cx="1523880" cy="25092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62640 h 250920"/>
              <a:gd name="textAreaBottom" fmla="*/ 188280 h 25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AutoShape 12"/>
          <p:cNvSpPr/>
          <p:nvPr/>
        </p:nvSpPr>
        <p:spPr>
          <a:xfrm rot="9855600">
            <a:off x="2133000" y="2514240"/>
            <a:ext cx="1904760" cy="22716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AutoShape 13"/>
          <p:cNvSpPr/>
          <p:nvPr/>
        </p:nvSpPr>
        <p:spPr>
          <a:xfrm rot="5400000">
            <a:off x="1523880" y="472428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AutoShape 14"/>
          <p:cNvSpPr/>
          <p:nvPr/>
        </p:nvSpPr>
        <p:spPr>
          <a:xfrm rot="517800">
            <a:off x="5789520" y="4694040"/>
            <a:ext cx="1589040" cy="228600"/>
          </a:xfrm>
          <a:custGeom>
            <a:avLst/>
            <a:gdLst>
              <a:gd name="textAreaLeft" fmla="*/ 198360 w 1589040"/>
              <a:gd name="textAreaRight" fmla="*/ 1390680 w 15890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3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518" name="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521" name="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524" name="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527" name="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530" name="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533" name="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536" name="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539" name="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542" name="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545" name="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0"/>
                            </p:stCondLst>
                            <p:childTnLst>
                              <p:par>
                                <p:cTn id="5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5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5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0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9500"/>
                            </p:stCondLst>
                            <p:childTnLst>
                              <p:par>
                                <p:cTn id="537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538" dur="3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0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541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550" name="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550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no Pro"/>
              </a:rPr>
              <a:t>Подбери к существительным подходящие глаг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04960" y="1752480"/>
            <a:ext cx="1904760" cy="2895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 rot="21303600">
            <a:off x="685800" y="1599840"/>
            <a:ext cx="1752480" cy="16905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 rot="847200">
            <a:off x="6705360" y="1752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 rot="951600">
            <a:off x="6781320" y="35053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 rot="20760600">
            <a:off x="457200" y="350496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4876920" y="4800600"/>
            <a:ext cx="1760400" cy="18478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211464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50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500"/>
                            </p:stCondLst>
                            <p:childTnLst>
                              <p:par>
                                <p:cTn id="5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8500"/>
                            </p:stCondLst>
                            <p:childTnLst>
                              <p:par>
                                <p:cTn id="5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280" y="504360"/>
            <a:ext cx="793116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7b37"/>
                </a:solidFill>
                <a:latin typeface="Arno Pro"/>
              </a:rPr>
              <a:t>Укажи в тексте глаг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598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старичок-лесовичок гулял по лесу и вышел на полянку. На полянке рос высокий дуб. На самой верхушке этого дерева кто-то громко жужжал. Лесовичок сел на траву под деревом, обхватил голову руками и задума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7086600" y="2133720"/>
            <a:ext cx="9907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Line 5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>
            <a:off x="3200400" y="2666880"/>
            <a:ext cx="12193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Line 7"/>
          <p:cNvSpPr/>
          <p:nvPr/>
        </p:nvSpPr>
        <p:spPr>
          <a:xfrm>
            <a:off x="1295280" y="4114800"/>
            <a:ext cx="160020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1295280" y="5105520"/>
            <a:ext cx="19814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029200" y="4114800"/>
            <a:ext cx="7621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3124080" y="4572000"/>
            <a:ext cx="1752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6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кспресс - опр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такое глаго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лагол – это самостоятельная часть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обозначает глаго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лагол обозначает действие предме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какие вопросы отвечает глаго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лагол отвечает на вопросы что делать? что сделать?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20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1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1acbfac431d009018b53ff8218c2b9a3[1]"/>
          <p:cNvPicPr/>
          <p:nvPr/>
        </p:nvPicPr>
        <p:blipFill>
          <a:blip r:embed="rId1"/>
          <a:stretch/>
        </p:blipFill>
        <p:spPr>
          <a:xfrm>
            <a:off x="2590920" y="3733920"/>
            <a:ext cx="2819160" cy="2209680"/>
          </a:xfrm>
          <a:prstGeom prst="rect">
            <a:avLst/>
          </a:prstGeom>
          <a:ln w="0">
            <a:noFill/>
          </a:ln>
        </p:spPr>
      </p:pic>
      <p:sp>
        <p:nvSpPr>
          <p:cNvPr id="571" name="WordArt 6"/>
          <p:cNvSpPr txBox="1"/>
          <p:nvPr/>
        </p:nvSpPr>
        <p:spPr>
          <a:xfrm>
            <a:off x="1371600" y="1219320"/>
            <a:ext cx="6858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в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        </a:t>
            </a: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извилистая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                                             </a:t>
            </a: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уводи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          </a:t>
            </a: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тропин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                                                   </a:t>
            </a:r>
            <a:r>
              <a:rPr b="1" lang="en-US" sz="4000" spc="-1" strike="noStrike">
                <a:solidFill>
                  <a:srgbClr val="2f1311"/>
                </a:solidFill>
                <a:latin typeface="Arno Pro"/>
              </a:rPr>
              <a:t>лес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Извилистая тропинка уводит в лес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Извилистая тропинка уводит в лес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лес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тропин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Извилистая тропинка уводит в лес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лес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no Pro"/>
              </a:rPr>
              <a:t>тропинка                   извилиста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440" y="25905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Что без меня предметы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Лишь названь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о я приду – все в действие придёт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Летит ракета, люди строят здань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И рожь в полях растё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WordArt 3"/>
          <p:cNvSpPr txBox="1"/>
          <p:nvPr/>
        </p:nvSpPr>
        <p:spPr>
          <a:xfrm>
            <a:off x="380880" y="380880"/>
            <a:ext cx="6400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лагол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3"/>
          <a:stretch/>
        </p:blipFill>
        <p:spPr>
          <a:xfrm>
            <a:off x="3276720" y="4876920"/>
            <a:ext cx="2057400" cy="170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"/>
          <p:cNvPicPr/>
          <p:nvPr/>
        </p:nvPicPr>
        <p:blipFill>
          <a:blip r:embed="rId5"/>
          <a:stretch/>
        </p:blipFill>
        <p:spPr>
          <a:xfrm>
            <a:off x="5791320" y="495288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12014 L 0.42917 -0.67986 E">
                                      <p:cBhvr>
                                        <p:cTn id="75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289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Что значит слово ГЛАГО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переводе со старославянского языка глагол – это значит слово, реч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ши предки рассматривали его как слово из слов, важнейшим видом сл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ез глагола не построишь предложений, не передашь собеседнику никаких сообщ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8c73"/>
                </a:solidFill>
                <a:latin typeface="Arial"/>
              </a:rPr>
              <a:t>Сравните два текста. </a:t>
            </a:r>
            <a:br>
              <a:rPr sz="3600"/>
            </a:br>
            <a:r>
              <a:rPr b="0" lang="en-US" sz="3600" spc="-1" strike="noStrike">
                <a:solidFill>
                  <a:srgbClr val="2c8c73"/>
                </a:solidFill>
                <a:latin typeface="Arial"/>
              </a:rPr>
              <a:t>Чем они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Утро. Солнце. Лес. Лесные жители. Голосистый соловей. Трудолюбивый дятел. Зайчик под кустом. Мышки в тр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Наступило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 утро.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Выглянуло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 солнце. Лес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ожил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Проснулись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 лесные жители. Голосистый соловей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запел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. Трудолюбивый дятел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застучал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Умылся 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зайчик под кустом. </a:t>
            </a:r>
            <a:r>
              <a:rPr b="1" lang="en-US" sz="2800" spc="-1" strike="noStrike">
                <a:solidFill>
                  <a:srgbClr val="000000"/>
                </a:solidFill>
                <a:latin typeface="Arno Pro"/>
              </a:rPr>
              <a:t>Зашуршали</a:t>
            </a:r>
            <a:r>
              <a:rPr b="0" lang="en-US" sz="2800" spc="-1" strike="noStrike">
                <a:solidFill>
                  <a:srgbClr val="000000"/>
                </a:solidFill>
                <a:latin typeface="Arno Pro"/>
              </a:rPr>
              <a:t> мышки в тр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6527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3-19T16:14:4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